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2.png" ContentType="image/png"/>
  <Override PartName="/ppt/media/image7.wmf" ContentType="image/x-wmf"/>
  <Override PartName="/ppt/media/image13.wmf" ContentType="image/x-wmf"/>
  <Override PartName="/ppt/media/image5.png" ContentType="image/png"/>
  <Override PartName="/ppt/media/image28.png" ContentType="image/png"/>
  <Override PartName="/ppt/media/image9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4.wmf" ContentType="image/x-wmf"/>
  <Override PartName="/ppt/media/image3.png" ContentType="image/png"/>
  <Override PartName="/ppt/media/image26.png" ContentType="image/png"/>
  <Override PartName="/ppt/media/image2.wmf" ContentType="image/x-wmf"/>
  <Override PartName="/ppt/media/image1.wmf" ContentType="image/x-wmf"/>
  <Override PartName="/ppt/media/image27.png" ContentType="image/png"/>
  <Override PartName="/ppt/media/image15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20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7028-7EEA-4023-BFC3-6581BC7EF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496E-20B3-432D-AC49-B5BFF74B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2F19-7996-4B63-9224-CDB8BEA3E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5719-4D9C-4792-9618-64684FC25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6E6C-8BEE-4204-B4AD-8FF83333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AB69-8637-43B8-95CC-A2F2693A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C284-EF75-4648-ABB2-06281B5F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FB3B-F060-4E17-BD63-BED4B78C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3688-583A-449B-B567-077202D3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7BF7-2287-42F4-863A-7E31CFE9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A42E-7413-41A4-A034-9FC4DA60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619D-06CB-496D-87BE-7B0FAFBA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AA78-DAA8-42EE-BACB-D54778CC8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333399"/>
                </a:solidFill>
                <a:latin typeface="Arial"/>
              </a:rPr>
              <a:t>Інформаційні технології управління навчальним навантаженням у вищих навчальних закладах</a:t>
            </a:r>
            <a:br>
              <a:rPr sz="4800"/>
            </a:br>
            <a:br>
              <a:rPr sz="48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Гриценко Валерій Григо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Arial"/>
              </a:rPr>
              <a:t>Створення банку дисциплі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Arial"/>
              </a:rPr>
              <a:t>Створення банку дисциплі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Arial"/>
              </a:rPr>
              <a:t>Створення банку дисциплі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604000" cy="52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Arial"/>
              </a:rPr>
              <a:t>Відображення банку дисциплі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Arial"/>
              </a:rPr>
              <a:t>Відображення банку дисциплі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Arial"/>
              </a:rPr>
              <a:t>Створення банку форм державної атестаці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11280" y="2349360"/>
          <a:ext cx="7935840" cy="233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349360"/>
                    <a:ext cx="7935840" cy="23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Arial"/>
              </a:rPr>
              <a:t>Створення банку форм державної атестаці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4581360"/>
            <a:ext cx="9144000" cy="1217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820728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3399"/>
                </a:solidFill>
                <a:latin typeface="Arial"/>
              </a:rPr>
              <a:t>Створення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DF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окументу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навчального пла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93760" y="1268280"/>
            <a:ext cx="885024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3399"/>
                </a:solidFill>
                <a:latin typeface="Arial"/>
              </a:rPr>
              <a:t>Створення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DF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окументу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навчального пла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28520" y="1341360"/>
            <a:ext cx="90154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Arial"/>
              </a:rPr>
              <a:t>Модель формування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333399"/>
                </a:solidFill>
                <a:latin typeface="Arial"/>
              </a:rPr>
              <a:t>робочого навчального план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57200" y="2289240"/>
          <a:ext cx="8229600" cy="314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89240"/>
                    <a:ext cx="8229600" cy="31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Arial"/>
              </a:rPr>
              <a:t>Модель формування навчального план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752400" y="1600200"/>
          <a:ext cx="7639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1600200"/>
                    <a:ext cx="7639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Arial"/>
              </a:rPr>
              <a:t>Редагування контингент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29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33399"/>
                </a:solidFill>
                <a:latin typeface="Arial"/>
              </a:rPr>
              <a:t>Відображення континген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Arial"/>
              </a:rPr>
              <a:t>Модель розподілу навчального навантаження між кафедрами та викладач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692360" y="1989000"/>
          <a:ext cx="5716440" cy="428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989000"/>
                    <a:ext cx="5716440" cy="42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3399"/>
                </a:solidFill>
                <a:latin typeface="Arial"/>
              </a:rPr>
              <a:t>Редагування розподілу навантаження між кафедр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3399"/>
                </a:solidFill>
                <a:latin typeface="Arial"/>
              </a:rPr>
              <a:t>Редагування розподілу навантаження між викладач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2953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590920" y="4013280"/>
            <a:ext cx="655308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3399"/>
                </a:solidFill>
                <a:latin typeface="Arial"/>
              </a:rPr>
              <a:t>Створення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DF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окументу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робочого навчального пла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3440" y="1844640"/>
            <a:ext cx="89805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3399"/>
                </a:solidFill>
                <a:latin typeface="Arial"/>
              </a:rPr>
              <a:t>Створення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DF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окументу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робочого навчального пла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82520" y="2205000"/>
            <a:ext cx="8961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3399"/>
                </a:solidFill>
                <a:latin typeface="Arial"/>
              </a:rPr>
              <a:t>Створення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DF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окументу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розподілу ставок між кафедр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748720" cy="52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3399"/>
                </a:solidFill>
                <a:latin typeface="Arial"/>
              </a:rPr>
              <a:t>Створення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DF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окументу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розподілу навчального навантаження між кафедр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3399"/>
                </a:solidFill>
                <a:latin typeface="Arial"/>
              </a:rPr>
              <a:t>Редагування анкети співробітників з наданням прав доступ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68360" y="1467000"/>
            <a:ext cx="810108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Arial"/>
              </a:rPr>
              <a:t>Етапи формування навчального план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Створення заголов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Створення графіка навчального проце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Створення банку дисциплі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Створення банку форм державної атестац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Arial"/>
              </a:rPr>
              <a:t>Створення заголов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984320"/>
          <a:ext cx="8229600" cy="375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4320"/>
                    <a:ext cx="8229600" cy="37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Arial"/>
              </a:rPr>
              <a:t>Створення заголов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Arial"/>
              </a:rPr>
              <a:t>Створення графіка навчального процес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2612880"/>
          <a:ext cx="8229600" cy="250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2880"/>
                    <a:ext cx="8229600" cy="25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Arial"/>
              </a:rPr>
              <a:t>Створення графіка навчального процес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Arial"/>
              </a:rPr>
              <a:t>Редагування графіка навчального процес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692360" y="1460520"/>
            <a:ext cx="5616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Arial"/>
              </a:rPr>
              <a:t>Створення банку дисциплі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941480"/>
          <a:ext cx="8229600" cy="38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41480"/>
                    <a:ext cx="8229600" cy="38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8T13:27:40Z</dcterms:created>
  <dc:creator>User</dc:creator>
  <dc:description/>
  <dc:language>en-US</dc:language>
  <cp:lastModifiedBy>User</cp:lastModifiedBy>
  <dcterms:modified xsi:type="dcterms:W3CDTF">2009-10-29T10:07:17Z</dcterms:modified>
  <cp:revision>10</cp:revision>
  <dc:subject/>
  <dc:title>Інформаційні технології управління навчальним навантаженням у вищих навчальних закладах  Гриценко Валерій Григорович</dc:title>
</cp:coreProperties>
</file>